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5D04-9540-40BB-90CD-A1434369F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CE3B-3D85-4D8C-9A57-A3153219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842D-4ACF-4912-9057-B25AA919F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4F3E-94C5-4E77-B679-A4546C45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A62E-622C-4580-BC1C-0FA0F68F2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4880-E308-43B2-B0E1-DC0A81F9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8912-B6E4-4FD1-964C-E2FDA59E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EF7A-FD26-43F1-AC23-2C7D6DFF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4C77-4D2A-4F35-AAE9-E6D7CC3E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CDF6-125D-4710-85B1-2709399A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28D8-0252-4F2B-8C85-B30B6D0A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9796-3747-481E-976B-EDA99B27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5FA4-A654-4F74-973A-46DA87A2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4ED0-2B1A-430B-BE48-9A1B1A21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6FD9-52A7-473C-8349-36C01B62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BBC7-2EFC-4105-A316-C6E472CB4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D865-530B-421E-B0C4-C03F3A3AB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CF28-DC5D-4EC7-A521-C6E7B9DC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69F3-283B-4C86-80A2-F3872E55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606E-D891-4E63-8CD1-DF253740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7BDB-9492-4F31-AF02-E368EC2A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AAE0-39EC-41D3-AE55-5FFC146D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133D-3053-4424-8E44-C9769A6F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2546-A26E-4D23-8743-63ED459B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269A-C40E-47CC-87A9-2CCC74922B8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1050-6570-4528-8EBE-CA1768BC9B9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09680" y="99072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Best Artist: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Verdana"/>
              </a:rPr>
              <a:t>Actress and Sing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e Beyonce Shak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Sylfaen"/>
              </a:rPr>
              <a:t>Today’s music: Sasha Fier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Tekton Pro Ext"/>
              </a:rPr>
              <a:t>What’s new with B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Tekton Pro Ext"/>
              </a:rPr>
              <a:t>How does she keep in shap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Tekton Pro Ext"/>
              </a:rPr>
              <a:t>What does she do on her free tim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Tekton Pro Ext"/>
              </a:rPr>
              <a:t>How’s her famil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ff"/>
                </a:solidFill>
                <a:latin typeface="Verdana"/>
              </a:rPr>
              <a:t>She went solo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20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Bradley Hand ITC"/>
              </a:rPr>
              <a:t>Say her name, say her name! Beyonce (sounds like ''fiancé'') Knowles, lead singer of the lineup challenged Destiny's Child, has reportedly inked a solo deal with Columbia Record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20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cc"/>
                </a:solidFill>
                <a:latin typeface="Bradley Hand ITC"/>
              </a:rPr>
              <a:t>(Columbia declined to comment on the deal.) The reported three album contract, which netted the 19 year old star a $1.5 million advance, comes after months of rumors that Knowles was about to pull a Diana Ross and ditch the group, which has lost three members in the past year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" dur="5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4" dur="5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Keeping in shape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1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INUTE ONE: BASIC CRUNCHES</a:t>
            </a:r>
            <a:br>
              <a:rPr sz="1400"/>
            </a:b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INUTE TWO: BICYCLE CRUNCHES</a:t>
            </a:r>
            <a:br>
              <a:rPr sz="1400"/>
            </a:b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Lie on floor, legs extended at a 45-degree angle. Bring bent left knee toward chest, reaching right elbow toward it. Alternate right and left knees. </a:t>
            </a:r>
            <a:br>
              <a:rPr sz="1400"/>
            </a:b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INUTE 3: REST</a:t>
            </a:r>
            <a:br>
              <a:rPr sz="1400"/>
            </a:b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INUTE 4: LEFT TWISTS</a:t>
            </a:r>
            <a:br>
              <a:rPr sz="1400"/>
            </a:b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Lie on back, knees bent, hands behind head, elbows out. With feet on floor, curl up, aiming right shoulder at left knee. </a:t>
            </a:r>
            <a:br>
              <a:rPr sz="1400"/>
            </a:b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INUTE 5: RIGHT TWISTS</a:t>
            </a:r>
            <a:br>
              <a:rPr sz="1400"/>
            </a:b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INUTE 6: REST</a:t>
            </a:r>
            <a:br>
              <a:rPr sz="1400"/>
            </a:b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INUTE 7: PLANKS</a:t>
            </a:r>
            <a:br>
              <a:rPr sz="1400"/>
            </a:b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Lie facedown. Support your weight on toes and forearms. Keep elbows directly beneath shoulders and body straight.</a:t>
            </a:r>
            <a:br>
              <a:rPr sz="1400"/>
            </a:b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INUTE 8: REST</a:t>
            </a:r>
            <a:br>
              <a:rPr sz="1400"/>
            </a:b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INUTE 9: PLANKS</a:t>
            </a:r>
            <a:br>
              <a:rPr sz="1400"/>
            </a:b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INUTE 10: REST</a:t>
            </a:r>
            <a:br>
              <a:rPr sz="1400"/>
            </a:b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INUTES 11 and 12: CAPTAIN'S CHAIR</a:t>
            </a:r>
            <a:br>
              <a:rPr sz="1400"/>
            </a:b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Do 3 sets of 20 at a gym. Grip handholds and press lower back into pad, letting legs hang. Slowly lift bent knees to chest.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She also does the following:</a:t>
            </a:r>
            <a:br>
              <a:rPr sz="1400"/>
            </a:b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Every day except Sunday, she does a 4 mile, 40 minute jog. After a warm-up, she increases the treadmill incline to 2 percent and switches the speed from 6.0 mph to 7.5 mph and back every 30 seconds. </a:t>
            </a:r>
            <a:br>
              <a:rPr sz="1400"/>
            </a:b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fter the treadmill comes a 20 minute dumbell session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ree Ti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00200" y="2819160"/>
            <a:ext cx="58672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Beyonce’ Knowels is a regular everyday person who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orks hard to not be in the spot light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267680" y="4038480"/>
            <a:ext cx="1876320" cy="2819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1676520"/>
            <a:ext cx="1828800" cy="2743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0" y="4905360"/>
            <a:ext cx="2895480" cy="1952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7010280" y="1600200"/>
            <a:ext cx="2133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295 E">
                                      <p:cBhvr>
                                        <p:cTn id="86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983 -0.13295 C 0.05087 -0.08763 0.06077 -0.04648 0.07778 -0.01966 C 0.07778 -0.0185 0.10486 0.01757 0.10486 0.01618 C 0.1198 0.0363 0.12882 0.06428 0.12882 0.09341 C 0.12882 0.15214 0.09375 0.19861 0.04983 0.2 C 0.00591 0.19861 -0.02916 0.15214 -0.02916 0.09341 C -0.02916 0.06428 -0.02014 0.0363 -0.0052 0.01618 C -0.0052 0.01757 0.02188 -0.0185 0.02188 -0.01966 C 0.03889 -0.04648 0.04879 -0.08763 0.04983 -0.13295 Z">
                                      <p:cBhvr>
                                        <p:cTn id="90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amil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80720" y="1752480"/>
            <a:ext cx="7162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086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rte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Forte"/>
              </a:rPr>
              <a:t>The marriage license has been filed – as PEOPLE first reported last month – but Kelly Rowland is still playing coy when it comes to Beyoncé Knowles's hush-hush wedding to Jay-Z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Forte"/>
              </a:rPr>
              <a:t>The singer – a founding member of Destiny's Child – was in London Wednesday night at the LG Scarlet TV launch party promoting her remix album, </a:t>
            </a:r>
            <a:r>
              <a:rPr b="0" i="1" lang="en-US" sz="2000" spc="-1" strike="noStrike">
                <a:solidFill>
                  <a:srgbClr val="000000"/>
                </a:solidFill>
                <a:latin typeface="Forte"/>
              </a:rPr>
              <a:t>Miss Kelly: Diva Deluxe</a:t>
            </a:r>
            <a:r>
              <a:rPr b="0" lang="en-US" sz="2000" spc="-1" strike="noStrike">
                <a:solidFill>
                  <a:srgbClr val="000000"/>
                </a:solidFill>
                <a:latin typeface="Forte"/>
              </a:rPr>
              <a:t>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Forte"/>
              </a:rPr>
              <a:t>But she could not be tempted to discuss her BFF's April 4 wedding, which she attended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Forte"/>
              </a:rPr>
              <a:t>"I just spoke to Beyoncé last night, and she is very happy," Rowland – who is already hard at work on her third solo album – told PEOPLE at the LG Scarlet TV launch party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Forte"/>
              </a:rPr>
              <a:t>So married life is treating Knowles well? "How do you know there's been a wedding?" she replied playfully. "This is something you need to ask Beyoncé and Jay."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25671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3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2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2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N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30477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! This is not the end of Beyonce’ formally known as Sasha Fierc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he is also hoping to one day reunite and make another album with the group that started her off with stardom, Destiny’s Chil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781680" y="0"/>
            <a:ext cx="2362320" cy="1981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57400" cy="1981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0" y="4952880"/>
            <a:ext cx="1371600" cy="190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7772400" y="4800600"/>
            <a:ext cx="1371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6:37:55Z</dcterms:created>
  <dc:creator>762703</dc:creator>
  <dc:description/>
  <dc:language>en-US</dc:language>
  <cp:lastModifiedBy>762703</cp:lastModifiedBy>
  <dcterms:modified xsi:type="dcterms:W3CDTF">2008-12-12T16:53:25Z</dcterms:modified>
  <cp:revision>4</cp:revision>
  <dc:subject/>
  <dc:title>Best Artist: Actress and Singer</dc:title>
</cp:coreProperties>
</file>